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E83-A09D-416A-8CE4-63B7A8C4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C6B-97E3-4C79-B0F2-2529701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D89-4790-4125-A2D5-48167BE8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3C3-7B0D-4A82-B096-784CB5F4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1B6-CDC1-406E-8B7E-4B562E0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0E2-F0DB-490F-B6E8-C171839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647-DD6B-4547-8B93-9A3839D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F30-FECE-42E4-AEEE-1655B1EF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FF2-F57D-4184-A89E-FE798FF1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A83-59E4-4EB1-897D-2DC3ED8F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0AC-6480-43FC-8016-0C78DBF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1F3-A5E3-4426-BA9E-43FDB8DD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8A8-4F93-42B1-ADC0-89A0A769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metric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314440"/>
            <a:ext cx="8763120" cy="233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600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Geometric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28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2819520" cy="6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2971800"/>
            <a:ext cx="61722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001000" cy="163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94120" y="1219320"/>
            <a:ext cx="2521080" cy="41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8769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867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001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05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55245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57913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21:46Z</dcterms:created>
  <dc:creator>Susannah Graham</dc:creator>
  <dc:description/>
  <dc:language>en-US</dc:language>
  <cp:lastModifiedBy>Susannah Graham</cp:lastModifiedBy>
  <dcterms:modified xsi:type="dcterms:W3CDTF">2009-08-04T21:48:40Z</dcterms:modified>
  <cp:revision>2</cp:revision>
  <dc:subject/>
  <dc:title>Lesson 8.6 Geometric Sequence</dc:title>
</cp:coreProperties>
</file>